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AEE-2904-4D9A-8E74-EDF7FCD7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33F-A045-4134-B1A7-95928EC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05D-589E-4CDB-BBAF-ED9AF9DE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2EB-164C-46C3-9C34-B84FDF1C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929D-6488-4AC7-A4CB-40875F80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EBC-C47D-4CD4-8ACC-E7BE13F8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47FE-B572-441B-8667-7D3B88E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C7B-D2EC-4C85-87CC-3F5F4C8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4B2A-295C-4D8F-9809-8C4D5EBF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EDEB-C9AF-4425-8D19-CFE7546D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4DD-702E-4F59-946A-57F4157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1D1-A2E1-4295-BF34-205AD15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850B-DE83-4FE7-A153-3D07C5C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FABF-49D7-47C8-8975-0772224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F336-19CA-4846-A777-FD7F481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EDA-6CA3-4853-8375-636E91A6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AD92-8246-4A99-8591-DBB3E7B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C166-3D08-429D-81F8-35C213C1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252B-4DEB-422B-B161-7E049E50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7750-E1DC-4DB8-94E2-BFE02485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1F2B-E285-4F1D-9F4E-35B790C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A041-B674-49CF-8BB1-6A55237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C62-9BB3-4B49-B6E8-C4BAFC92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BC18-643F-4CF0-AE34-4539332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A53C-6A64-48F7-A7D2-498E3C7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100E-B185-445D-ACE9-7DA01E9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67D9-5949-4157-B65C-1F3E143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EE05-A3BB-4DC1-B19A-5A2353B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0E4B-5FC4-4309-8EF1-B951D7ED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9431-6692-4A05-9F05-D6184CB6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69E1-3D4E-41C5-9ADE-6DDA625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AD7B-0C27-4463-9EFD-16D7E92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DAF3-96DF-4064-A547-5CADEA3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8FD-C80C-4D17-9083-6F0E93F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592A-A0E6-4D13-94DF-B2BA853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B7D6-BDE7-46E2-B92F-812A4F61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F047-F7F8-40DD-A647-1AAEB47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51A2-C852-4831-BA9D-E6372E6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C995-9EA1-434C-A4E9-D55B92C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D647-A38D-42F0-8614-05B6C4A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593F-9CC3-43E0-BDD5-3CB6BCA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E09F-A67B-46F8-9CCF-79C03F28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F41B-F08A-4344-895B-A926D2D6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2DCB-C9E2-4195-B558-8E268C40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1A0-030F-4177-9372-56030022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2D09-C442-4AC0-A24E-ACB395C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C17D-C210-44C8-A408-D38D8DF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2226-3985-4DFB-A539-BF663F58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C640-9DA2-45EE-8069-414333B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637FF-6C7E-43F5-BA3B-7B7B0A5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2244-C2BB-434F-B16E-9EC8A06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9C1F-1A9B-48D9-9CCA-4A5B429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D5BC-92CF-45E9-9418-173697D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463E-DFFA-43EE-8355-0142552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3623-60BF-4676-9CFB-8AEABBCC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168-A304-4692-932B-A5B3236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02C1-263D-429A-A6F5-255E43FB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4279-11EE-428B-9BF9-F5E3E6E9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4D08-FB0A-40AB-9671-EAC8B551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FC88-26C9-427B-B8DC-1EA82B1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F405-225A-49D5-BE2D-B3BFF57C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4EBD-E192-4B95-BC31-3C0BEFB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A627-90B0-4E87-B51E-170B8D3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E5CB-419F-4650-B200-01D8496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A646-C51C-4F08-A67E-2B7ECB6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59A2-D2F8-4C43-8D2F-256C278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41E-E4C7-4790-86A3-F2D5E76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8121-A728-421D-93D6-3BBEF0F3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7E38-FE8C-41D2-B0C1-E3A2D91B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F2FE-E1BE-4430-B54B-C6A42CC8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A64E-879D-4116-8B02-0877C877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E940-C1AB-4BDD-A440-06D6250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0837-FEEB-4DA3-90F1-D5D6FD3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96EF-AC9F-4CCE-95EA-D34A4DB6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9F0E-F4C6-4FEA-91A6-4176324A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6DEE2-00AE-41EA-A0F1-159C1971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FEBA-0CC0-44C5-909F-8959524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BF9-F4AD-407C-A53D-778E450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51B3B-AAB3-44FF-AC5B-7E8016E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DE64-A1D1-4AB5-9816-FFD9075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FEC2A-2B01-4DBF-AC5C-93A74AE6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2A20-B0A7-4716-BC7D-B9C260FB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94C0-66F2-4C80-A149-D3DFF06E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B187-58F0-4345-95BB-F4AF9B37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BB7F-35E8-410A-8884-50D5A3A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0484-199B-4B57-A150-6E2A709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25D7-E04B-4812-9367-67C824F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BBF5-96BD-4569-BC01-D1090ABA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804-4816-4AF1-B342-3B27E8F8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45F8-AEA1-4361-B743-2C0EFEE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4C787-A11A-4DC5-A47B-989780F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A307-774F-400C-9125-5D8B929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ECA6-66CE-4310-BA4D-4AB4115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752E-24D3-4C22-9A49-B2D6BF07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3EC1-17C5-4881-A7B9-9EA5341E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0BF2F-DEA2-43C1-92DE-37C7309D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218-B5D9-4444-9636-BE43205C73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E943-011C-46AD-AEA9-CF935F6C9D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5827-FFB5-416F-90D7-0D9047DC49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5B38-EC07-400E-93E5-B40ABA5D28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7D7-2B6C-4E1F-B9EA-2A76E8B576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F51-A1A4-43E8-9BF6-982787C5D9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1A2-9FCA-4209-A078-2637C35041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9823-D4E2-4431-BE86-AE8FD63E557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orm of mRNA detaching from the DNA is not ready to be read y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must go through two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teration of end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licing of reg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5’ end gets “capped” by a modified version of guan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5’ cap holds the pre-mRNA together and acts as a recognition molecule for ribos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3’ end, a region of 30 to 200 adenine nucleotides is added – called a poly(A) t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ain, to assist in holding the pre-mRNA toget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C:\Users\jeremy.smith\Desktop\700px-MRNA_structure.svg.png"/>
          <p:cNvPicPr/>
          <p:nvPr/>
        </p:nvPicPr>
        <p:blipFill>
          <a:blip r:embed="rId1"/>
          <a:stretch/>
        </p:blipFill>
        <p:spPr>
          <a:xfrm>
            <a:off x="0" y="2057400"/>
            <a:ext cx="9441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arge portion of the pre-mRNA will not leave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rtions are cut out, and the flanking regions are joined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gions that are kept are exons, ones that are not are intr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871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rt regions of nucleotides at the end of introns signal their remo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nuclear ribonucleoproteins, snRNPs, join up with other proteins to form a splice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carries out the splicing proc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ttp://www.youtube.com/watch?v=WsofH466lqk&amp;feature=rela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w the mRNA is ready to be transl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all that the message is “read” three nucleotides at a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codon tripl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12_03_08"/>
          <p:cNvPicPr/>
          <p:nvPr/>
        </p:nvPicPr>
        <p:blipFill>
          <a:blip r:embed="rId2"/>
          <a:stretch/>
        </p:blipFill>
        <p:spPr>
          <a:xfrm>
            <a:off x="1828800" y="3352680"/>
            <a:ext cx="51814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don is interpreted by transfer RNA (tRN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sion has a nucleotide triplet of its 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erves as the complement to the codon of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nce, it is the anticod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64 permutations are covered by tRNA molecules, carrying the 20 different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there are only about 45 difference tRNA molec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many cases, the first two nucleotides are sufficient for recog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55752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each tRNA carries one, and only one,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ttachment of tRNA to amino acid is mediated by an aminoacyl-tRNA synthetase enzy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 different versions, one for each amino aci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eplication of DNA takes place in S phase of interph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ever,  DNA is also used during 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ssemble protei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rocess is broken down into two distinct segments: transcription and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entire human genome is found in every cell, but only a portion is activ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portion has to convey the message outside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9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nteraction of tRNA and mRNA takes place in a ribos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two protein subunits and ribosomal RNA (rRN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in the ribosome are three binding 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 site (peptidyl-tRNA site) where the tRNA holding the polypepetide ch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ite (aminoacyl-tRNA site) where next tRNA in line is hel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 site (exit site) where used tRNAs are discharg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s with initi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subunit of ribosome attaches to leader segment of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or tRNA bearing methionine then attaches, followed by attachment of large ribosomal subun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though methionine is initially attached, it is sometimes remov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xt stage, elongation, is now 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broken into three distinct ste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don recognition – mRNA codon hydrogen bonds with tRNA anticodon in A si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ptide bond formation – rRNA molecule catalyzes formation of peptide bond (amino acid-amino acid bond) between adjacent amino acids in A and P si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location – amino acid in A site is moved to P site, and is now carrier of growing polypeptide chain (AA in P site moved to E site for remova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2943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133200" y="1281240"/>
            <a:ext cx="8877600" cy="4295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3657600" y="5943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5bLEDd-PSTQ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lation is finalized during ter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stop codon triplets UAA, UAG and UGA, do not code for any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ther, a protein called a release factor binds to stop codon, causes a water molecule to att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olypeptide chain is released and is ready for the folding process that will make it a functional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77440" cy="29718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914400" y="5181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SMtWvDbfHLo&amp;feature=relm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990720" y="5867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TfYf_rPWUdY&amp;feature=relm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possible to translate a gene directly to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NA has to be used as an intermedi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te similar to DNA, with a few key dif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ally, it contains a ribose sug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has a hydroxyl group in the 2’ position instead of a hydro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151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ly, RNA tends to be single stranded, and contains uracil in the place of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not capable of leaving the 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omplement of one of the strands is transcribed as 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lled messenger RNA (mRNA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NA polymerase (II in eukaryotes) serves the duel purpose of splitting the strand and attaching the complementary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ain, in the 5’-&gt;3’ dire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binding is not rand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region of DNA, called the promoter, initiates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der of nucleotides in the promoter determines which strand gets transcrib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eries of proteins, called transcription factors, bind to the promo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 example, a TATA box is a part of the promoter reg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oup of TFs and RNA pol is called a transcription initiation compl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147760" y="414360"/>
            <a:ext cx="484848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ption proceeds until a terminator is re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ual detachment process is still a bit “iffy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5:02:08Z</dcterms:created>
  <dc:creator>ED18</dc:creator>
  <dc:description/>
  <dc:language>en-US</dc:language>
  <cp:lastModifiedBy>ED18</cp:lastModifiedBy>
  <dcterms:modified xsi:type="dcterms:W3CDTF">2012-02-29T19:06:53Z</dcterms:modified>
  <cp:revision>139</cp:revision>
  <dc:subject/>
  <dc:title>Transcription</dc:title>
</cp:coreProperties>
</file>